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18720" y="744120"/>
            <a:ext cx="4961160" cy="3721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466088-ABED-49C7-A253-BD00FC7D3BCE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ldImg"/>
          </p:nvPr>
        </p:nvSpPr>
        <p:spPr>
          <a:xfrm>
            <a:off x="919080" y="744480"/>
            <a:ext cx="4961160" cy="3721320"/>
          </a:xfrm>
          <a:prstGeom prst="rect">
            <a:avLst/>
          </a:prstGeom>
          <a:ln w="0">
            <a:noFill/>
          </a:ln>
        </p:spPr>
      </p:sp>
      <p:sp>
        <p:nvSpPr>
          <p:cNvPr id="75" name="PlaceHolder 2"/>
          <p:cNvSpPr>
            <a:spLocks noGrp="1"/>
          </p:cNvSpPr>
          <p:nvPr>
            <p:ph type="body"/>
          </p:nvPr>
        </p:nvSpPr>
        <p:spPr>
          <a:xfrm>
            <a:off x="680760" y="4714560"/>
            <a:ext cx="5437080" cy="446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Espace réservé du numéro de diapositive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B7A36-9A3C-4BC7-B8F1-65DC7A785C00}" type="slidenum">
              <a:rPr b="0" lang="fr-FR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83AF6-3DB3-479C-8680-37860921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DFD01-3996-4122-9642-8D509BB6A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972B-1615-4E75-8C37-17DE399FC6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CBE4-BFF2-494B-BDA8-F44DD6FC56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9C43E-585A-4698-B52B-8237DA4C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2EDB8-FC43-4AFF-8064-854846EFDC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274C9-63BE-4CDE-A6AF-764878740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8BFA2-5FB9-4CD3-BF5C-B1D6E9C9B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49755-EBA2-4BFB-BC52-2F4DDA3B19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F163A4-43FD-49B2-91D0-415041AB8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1348E-A20F-4ADA-8071-D40D4726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C518A-2AD6-4FB1-9CB4-180F5B8C7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F06A6-AD21-4B3D-9DFB-6A417D95848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3.pn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ZoneTexte 1"/>
          <p:cNvSpPr/>
          <p:nvPr/>
        </p:nvSpPr>
        <p:spPr>
          <a:xfrm>
            <a:off x="324000" y="981000"/>
            <a:ext cx="37144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Ouvert de 11 h 30 à 13 h 30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Nous vous proposons une formule unique</a:t>
            </a:r>
            <a:br>
              <a:rPr sz="1800"/>
            </a:b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à la Cafétéria qui se compose de 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-1943640" y="-100440"/>
            <a:ext cx="8425080" cy="113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49da4"/>
                </a:solidFill>
                <a:latin typeface="Calibri"/>
              </a:rPr>
              <a:t>Cafétéria Variation </a:t>
            </a:r>
            <a:br>
              <a:rPr sz="4000"/>
            </a:br>
            <a:r>
              <a:rPr b="1" lang="fr-FR" sz="2000" spc="-1" strike="noStrike">
                <a:solidFill>
                  <a:srgbClr val="149da4"/>
                </a:solidFill>
                <a:latin typeface="Calibri"/>
              </a:rPr>
              <a:t>RDC rue Rapp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Image 11" descr="C:\Users\aurore.poinot\Desktop\Images Variation\Image6.jpg"/>
          <p:cNvPicPr/>
          <p:nvPr/>
        </p:nvPicPr>
        <p:blipFill>
          <a:blip r:embed="rId1"/>
          <a:srcRect l="24578" t="69021" r="49274" b="0"/>
          <a:stretch/>
        </p:blipFill>
        <p:spPr>
          <a:xfrm>
            <a:off x="5621400" y="2262240"/>
            <a:ext cx="3314520" cy="2606760"/>
          </a:xfrm>
          <a:prstGeom prst="rect">
            <a:avLst/>
          </a:prstGeom>
          <a:ln w="0">
            <a:noFill/>
          </a:ln>
        </p:spPr>
      </p:pic>
      <p:pic>
        <p:nvPicPr>
          <p:cNvPr id="51" name="Image 12" descr=""/>
          <p:cNvPicPr/>
          <p:nvPr/>
        </p:nvPicPr>
        <p:blipFill>
          <a:blip r:embed="rId2"/>
          <a:stretch/>
        </p:blipFill>
        <p:spPr>
          <a:xfrm>
            <a:off x="5796000" y="5027760"/>
            <a:ext cx="2160720" cy="1476360"/>
          </a:xfrm>
          <a:prstGeom prst="rect">
            <a:avLst/>
          </a:prstGeom>
          <a:ln w="0">
            <a:noFill/>
          </a:ln>
        </p:spPr>
      </p:pic>
      <p:pic>
        <p:nvPicPr>
          <p:cNvPr id="52" name="Image 4" descr=""/>
          <p:cNvPicPr/>
          <p:nvPr/>
        </p:nvPicPr>
        <p:blipFill>
          <a:blip r:embed="rId3"/>
          <a:stretch/>
        </p:blipFill>
        <p:spPr>
          <a:xfrm>
            <a:off x="8153280" y="5013360"/>
            <a:ext cx="804960" cy="1728720"/>
          </a:xfrm>
          <a:prstGeom prst="rect">
            <a:avLst/>
          </a:prstGeom>
          <a:ln w="0">
            <a:noFill/>
          </a:ln>
        </p:spPr>
      </p:pic>
      <p:grpSp>
        <p:nvGrpSpPr>
          <p:cNvPr id="53" name="Groupe 1"/>
          <p:cNvGrpSpPr/>
          <p:nvPr/>
        </p:nvGrpSpPr>
        <p:grpSpPr>
          <a:xfrm>
            <a:off x="284040" y="2060640"/>
            <a:ext cx="3754440" cy="4608360"/>
            <a:chOff x="284040" y="2060640"/>
            <a:chExt cx="3754440" cy="4608360"/>
          </a:xfrm>
        </p:grpSpPr>
        <p:sp>
          <p:nvSpPr>
            <p:cNvPr id="54" name="Organigramme : Alternative 11"/>
            <p:cNvSpPr/>
            <p:nvPr/>
          </p:nvSpPr>
          <p:spPr>
            <a:xfrm>
              <a:off x="284040" y="2060640"/>
              <a:ext cx="3754440" cy="1512720"/>
            </a:xfrm>
            <a:prstGeom prst="flowChartAlternateProcess">
              <a:avLst/>
            </a:prstGeom>
            <a:solidFill>
              <a:srgbClr val="c0504d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1 plat du jou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Ou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1 pizza ou snack chaud du jour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Organigramme : Alternative 12"/>
            <p:cNvSpPr/>
            <p:nvPr/>
          </p:nvSpPr>
          <p:spPr>
            <a:xfrm>
              <a:off x="302760" y="4211640"/>
              <a:ext cx="3735720" cy="1127160"/>
            </a:xfrm>
            <a:prstGeom prst="flowChartAlternateProcess">
              <a:avLst/>
            </a:prstGeom>
            <a:solidFill>
              <a:srgbClr val="9bbb59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1 entrée à composer au salad’bar et un desser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6" name="Plus 13"/>
            <p:cNvSpPr/>
            <p:nvPr/>
          </p:nvSpPr>
          <p:spPr>
            <a:xfrm>
              <a:off x="1834920" y="3584520"/>
              <a:ext cx="576000" cy="626760"/>
            </a:xfrm>
            <a:custGeom>
              <a:avLst/>
              <a:gdLst/>
              <a:ahLst/>
              <a:rect l="l" t="t" r="r" b="b"/>
              <a:pathLst>
                <a:path w="576262" h="544513">
                  <a:moveTo>
                    <a:pt x="76384" y="208222"/>
                  </a:moveTo>
                  <a:lnTo>
                    <a:pt x="224096" y="208222"/>
                  </a:lnTo>
                  <a:lnTo>
                    <a:pt x="224096" y="72175"/>
                  </a:lnTo>
                  <a:lnTo>
                    <a:pt x="352166" y="72175"/>
                  </a:lnTo>
                  <a:lnTo>
                    <a:pt x="352166" y="208222"/>
                  </a:lnTo>
                  <a:lnTo>
                    <a:pt x="499878" y="208222"/>
                  </a:lnTo>
                  <a:lnTo>
                    <a:pt x="499878" y="336291"/>
                  </a:lnTo>
                  <a:lnTo>
                    <a:pt x="352166" y="336291"/>
                  </a:lnTo>
                  <a:lnTo>
                    <a:pt x="352166" y="472338"/>
                  </a:lnTo>
                  <a:lnTo>
                    <a:pt x="224096" y="472338"/>
                  </a:lnTo>
                  <a:lnTo>
                    <a:pt x="224096" y="336291"/>
                  </a:lnTo>
                  <a:lnTo>
                    <a:pt x="76384" y="336291"/>
                  </a:lnTo>
                  <a:lnTo>
                    <a:pt x="76384" y="208222"/>
                  </a:lnTo>
                  <a:close/>
                </a:path>
              </a:pathLst>
            </a:custGeom>
            <a:solidFill>
              <a:srgbClr val="c0504d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7" name="Organigramme : Alternative 14"/>
            <p:cNvSpPr/>
            <p:nvPr/>
          </p:nvSpPr>
          <p:spPr>
            <a:xfrm>
              <a:off x="367920" y="5967360"/>
              <a:ext cx="3670560" cy="701640"/>
            </a:xfrm>
            <a:prstGeom prst="flowChartAlternateProcess">
              <a:avLst/>
            </a:prstGeom>
            <a:solidFill>
              <a:srgbClr val="4bacc6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80808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Calibri"/>
                </a:rPr>
                <a:t>Eau aromatisée en libre servi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8" name="Plus 15"/>
            <p:cNvSpPr/>
            <p:nvPr/>
          </p:nvSpPr>
          <p:spPr>
            <a:xfrm>
              <a:off x="1834920" y="5365800"/>
              <a:ext cx="576000" cy="655560"/>
            </a:xfrm>
            <a:custGeom>
              <a:avLst/>
              <a:gdLst/>
              <a:ahLst/>
              <a:rect l="l" t="t" r="r" b="b"/>
              <a:pathLst>
                <a:path w="576262" h="546100">
                  <a:moveTo>
                    <a:pt x="76384" y="208829"/>
                  </a:moveTo>
                  <a:lnTo>
                    <a:pt x="223910" y="208829"/>
                  </a:lnTo>
                  <a:lnTo>
                    <a:pt x="223910" y="72386"/>
                  </a:lnTo>
                  <a:lnTo>
                    <a:pt x="352352" y="72386"/>
                  </a:lnTo>
                  <a:lnTo>
                    <a:pt x="352352" y="208829"/>
                  </a:lnTo>
                  <a:lnTo>
                    <a:pt x="499878" y="208829"/>
                  </a:lnTo>
                  <a:lnTo>
                    <a:pt x="499878" y="337271"/>
                  </a:lnTo>
                  <a:lnTo>
                    <a:pt x="352352" y="337271"/>
                  </a:lnTo>
                  <a:lnTo>
                    <a:pt x="352352" y="473714"/>
                  </a:lnTo>
                  <a:lnTo>
                    <a:pt x="223910" y="473714"/>
                  </a:lnTo>
                  <a:lnTo>
                    <a:pt x="223910" y="337271"/>
                  </a:lnTo>
                  <a:lnTo>
                    <a:pt x="76384" y="337271"/>
                  </a:lnTo>
                  <a:lnTo>
                    <a:pt x="76384" y="208829"/>
                  </a:lnTo>
                  <a:close/>
                </a:path>
              </a:pathLst>
            </a:custGeom>
            <a:solidFill>
              <a:srgbClr val="c0504d"/>
            </a:solidFill>
            <a:ln w="38160">
              <a:solidFill>
                <a:srgbClr val="ffffff"/>
              </a:solidFill>
              <a:round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9" name="Ellipse 3"/>
          <p:cNvSpPr/>
          <p:nvPr/>
        </p:nvSpPr>
        <p:spPr>
          <a:xfrm>
            <a:off x="4427640" y="1844640"/>
            <a:ext cx="2060640" cy="1506600"/>
          </a:xfrm>
          <a:prstGeom prst="ellipse">
            <a:avLst/>
          </a:prstGeom>
          <a:solidFill>
            <a:srgbClr val="92d050"/>
          </a:solidFill>
          <a:ln w="3816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Prix de la  formu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ffff"/>
                </a:solidFill>
                <a:latin typeface="Calibri"/>
                <a:ea typeface="Arial"/>
              </a:rPr>
              <a:t>5,30 € *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Image 4" descr=""/>
          <p:cNvPicPr/>
          <p:nvPr/>
        </p:nvPicPr>
        <p:blipFill>
          <a:blip r:embed="rId4"/>
          <a:stretch/>
        </p:blipFill>
        <p:spPr>
          <a:xfrm>
            <a:off x="5541840" y="0"/>
            <a:ext cx="3625920" cy="1104840"/>
          </a:xfrm>
          <a:prstGeom prst="rect">
            <a:avLst/>
          </a:prstGeom>
          <a:ln w="0">
            <a:noFill/>
          </a:ln>
        </p:spPr>
      </p:pic>
      <p:sp>
        <p:nvSpPr>
          <p:cNvPr id="61" name="ZoneTexte 16"/>
          <p:cNvSpPr/>
          <p:nvPr/>
        </p:nvSpPr>
        <p:spPr>
          <a:xfrm>
            <a:off x="5541840" y="1260360"/>
            <a:ext cx="360216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000000"/>
                </a:solidFill>
                <a:latin typeface="Calibri"/>
                <a:ea typeface="Arial"/>
              </a:rPr>
              <a:t>Restauration Street Foo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Pour lycéen / jeunes adultes curie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  <a:ea typeface="Arial"/>
              </a:rPr>
              <a:t>Co-créé avec eux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ZoneTexte 4"/>
          <p:cNvSpPr/>
          <p:nvPr/>
        </p:nvSpPr>
        <p:spPr>
          <a:xfrm>
            <a:off x="4167360" y="6321600"/>
            <a:ext cx="2852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Arial"/>
              </a:rPr>
              <a:t> Tarifs susceptibles d’être modifié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Image 14" descr=""/>
          <p:cNvPicPr/>
          <p:nvPr/>
        </p:nvPicPr>
        <p:blipFill>
          <a:blip r:embed="rId1"/>
          <a:stretch/>
        </p:blipFill>
        <p:spPr>
          <a:xfrm>
            <a:off x="5823000" y="4273560"/>
            <a:ext cx="2320920" cy="258444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26560" y="-90360"/>
            <a:ext cx="8425080" cy="1133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149da4"/>
                </a:solidFill>
                <a:latin typeface="Calibri"/>
              </a:rPr>
              <a:t>Cafétéria Corner, </a:t>
            </a:r>
            <a:r>
              <a:rPr b="1" lang="fr-FR" sz="2000" spc="-1" strike="noStrike">
                <a:solidFill>
                  <a:srgbClr val="149da4"/>
                </a:solidFill>
                <a:latin typeface="Calibri"/>
              </a:rPr>
              <a:t>1</a:t>
            </a:r>
            <a:r>
              <a:rPr b="1" lang="fr-FR" sz="2000" spc="-1" strike="noStrike" baseline="30000">
                <a:solidFill>
                  <a:srgbClr val="149da4"/>
                </a:solidFill>
                <a:latin typeface="Calibri"/>
              </a:rPr>
              <a:t>er</a:t>
            </a:r>
            <a:r>
              <a:rPr b="1" lang="fr-FR" sz="2000" spc="-1" strike="noStrike">
                <a:solidFill>
                  <a:srgbClr val="149da4"/>
                </a:solidFill>
                <a:latin typeface="Calibri"/>
              </a:rPr>
              <a:t> étage rue Rapp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Image 4" descr=""/>
          <p:cNvPicPr/>
          <p:nvPr/>
        </p:nvPicPr>
        <p:blipFill>
          <a:blip r:embed="rId2"/>
          <a:stretch/>
        </p:blipFill>
        <p:spPr>
          <a:xfrm>
            <a:off x="8153280" y="5129280"/>
            <a:ext cx="804960" cy="1728720"/>
          </a:xfrm>
          <a:prstGeom prst="rect">
            <a:avLst/>
          </a:prstGeom>
          <a:ln w="0">
            <a:noFill/>
          </a:ln>
        </p:spPr>
      </p:pic>
      <p:pic>
        <p:nvPicPr>
          <p:cNvPr id="66" name="il_fi" descr="Description : http://www.fdmm.ch/fileadmin/referenzen/verpackungsdesign/packaging_hilcona_pasta2go.jpg"/>
          <p:cNvPicPr/>
          <p:nvPr/>
        </p:nvPicPr>
        <p:blipFill>
          <a:blip r:embed="rId3"/>
          <a:srcRect l="18877" t="4404" r="21076" b="0"/>
          <a:stretch/>
        </p:blipFill>
        <p:spPr>
          <a:xfrm rot="20377200">
            <a:off x="6105240" y="1157400"/>
            <a:ext cx="2673360" cy="2574720"/>
          </a:xfrm>
          <a:prstGeom prst="rect">
            <a:avLst/>
          </a:prstGeom>
          <a:ln w="0">
            <a:noFill/>
          </a:ln>
        </p:spPr>
      </p:pic>
      <p:sp>
        <p:nvSpPr>
          <p:cNvPr id="67" name="Ellipse 16"/>
          <p:cNvSpPr/>
          <p:nvPr/>
        </p:nvSpPr>
        <p:spPr>
          <a:xfrm>
            <a:off x="6227640" y="979560"/>
            <a:ext cx="1584360" cy="865080"/>
          </a:xfrm>
          <a:prstGeom prst="ellipse">
            <a:avLst/>
          </a:prstGeom>
          <a:solidFill>
            <a:srgbClr val="92d050"/>
          </a:solidFill>
          <a:ln w="284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ffff"/>
                </a:solidFill>
                <a:latin typeface="Calibri"/>
                <a:ea typeface="Arial"/>
              </a:rPr>
              <a:t>4,10 </a:t>
            </a:r>
            <a:r>
              <a:rPr b="1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€ 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8" name="Picture 9" descr="C:\Users\nadia.kempf\Desktop\images.jpg"/>
          <p:cNvPicPr/>
          <p:nvPr/>
        </p:nvPicPr>
        <p:blipFill>
          <a:blip r:embed="rId4"/>
          <a:stretch/>
        </p:blipFill>
        <p:spPr>
          <a:xfrm>
            <a:off x="3422520" y="3811680"/>
            <a:ext cx="2390760" cy="1490400"/>
          </a:xfrm>
          <a:prstGeom prst="rect">
            <a:avLst/>
          </a:prstGeom>
          <a:ln w="0">
            <a:noFill/>
          </a:ln>
        </p:spPr>
      </p:pic>
      <p:sp>
        <p:nvSpPr>
          <p:cNvPr id="69" name="Ellipse 17"/>
          <p:cNvSpPr/>
          <p:nvPr/>
        </p:nvSpPr>
        <p:spPr>
          <a:xfrm>
            <a:off x="5356080" y="3776760"/>
            <a:ext cx="2095560" cy="1190520"/>
          </a:xfrm>
          <a:prstGeom prst="ellipse">
            <a:avLst/>
          </a:prstGeom>
          <a:solidFill>
            <a:srgbClr val="92d050"/>
          </a:solidFill>
          <a:ln w="28440">
            <a:solidFill>
              <a:srgbClr val="ffffff"/>
            </a:solidFill>
            <a:miter/>
          </a:ln>
          <a:effectLst>
            <a:outerShdw dist="1260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fffff"/>
                </a:solidFill>
                <a:latin typeface="Calibri"/>
                <a:ea typeface="Arial"/>
              </a:rPr>
              <a:t>Entre 3,70 € * et 4,25 € *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Image 3" descr=""/>
          <p:cNvPicPr/>
          <p:nvPr/>
        </p:nvPicPr>
        <p:blipFill>
          <a:blip r:embed="rId5"/>
          <a:stretch/>
        </p:blipFill>
        <p:spPr>
          <a:xfrm>
            <a:off x="-11160" y="0"/>
            <a:ext cx="1949400" cy="2924280"/>
          </a:xfrm>
          <a:prstGeom prst="rect">
            <a:avLst/>
          </a:prstGeom>
          <a:ln w="0">
            <a:noFill/>
          </a:ln>
        </p:spPr>
      </p:pic>
      <p:sp>
        <p:nvSpPr>
          <p:cNvPr id="71" name="ZoneTexte 11"/>
          <p:cNvSpPr/>
          <p:nvPr/>
        </p:nvSpPr>
        <p:spPr>
          <a:xfrm>
            <a:off x="426960" y="3645000"/>
            <a:ext cx="5991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Des sandwichs froids :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un choix parmi 2 sandwichs froids type baguette, wrap, Mauricette,…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Un Panini du jour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Une salade du jour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Des desserts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 : pâtisserie du jour, gâteaux, fruits et laitag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Des boissons et des confiseries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ZoneTexte 1"/>
          <p:cNvSpPr/>
          <p:nvPr/>
        </p:nvSpPr>
        <p:spPr>
          <a:xfrm>
            <a:off x="1978200" y="831960"/>
            <a:ext cx="6389640" cy="228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Ouvert de 7 h 30 à 18 h 00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Cafétéria proposant principalement de la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sandwicherie et du Pasta Box sur place</a:t>
            </a:r>
            <a:br>
              <a:rPr sz="1600"/>
            </a:b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ou à emporter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On y retrouve ainsi chaque jour 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Une Pasta Box : </a:t>
            </a:r>
            <a:r>
              <a:rPr b="0" lang="fr-FR" sz="1600" spc="-1" strike="noStrike">
                <a:solidFill>
                  <a:srgbClr val="000000"/>
                </a:solidFill>
                <a:latin typeface="Calibri"/>
                <a:ea typeface="Arial"/>
              </a:rPr>
              <a:t>chaque jour une pâte et sa sauce différente !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ZoneTexte 4"/>
          <p:cNvSpPr/>
          <p:nvPr/>
        </p:nvSpPr>
        <p:spPr>
          <a:xfrm>
            <a:off x="539640" y="6308640"/>
            <a:ext cx="285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Calibri"/>
                <a:ea typeface="Arial"/>
              </a:rPr>
              <a:t>*</a:t>
            </a:r>
            <a:r>
              <a:rPr b="0" lang="fr-FR" sz="1100" spc="-1" strike="noStrike">
                <a:solidFill>
                  <a:srgbClr val="000000"/>
                </a:solidFill>
                <a:latin typeface="Calibri"/>
                <a:ea typeface="Arial"/>
              </a:rPr>
              <a:t> Tarifs susceptibles d’être modifiés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0-09T11:42:36Z</dcterms:created>
  <dc:creator>-</dc:creator>
  <dc:description/>
  <dc:language>en-US</dc:language>
  <cp:lastModifiedBy>Isabelle RIEHL</cp:lastModifiedBy>
  <cp:lastPrinted>2021-06-22T15:09:24Z</cp:lastPrinted>
  <dcterms:modified xsi:type="dcterms:W3CDTF">2024-06-03T11:04:47Z</dcterms:modified>
  <cp:revision>617</cp:revision>
  <dc:subject/>
  <dc:title>Affirmer notre différence</dc:title>
</cp:coreProperties>
</file>